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19.pct" ContentType="image/x-pict"/>
  <Override PartName="/ppt/media/image18.pct" ContentType="image/x-pict"/>
  <Override PartName="/ppt/media/image17.png" ContentType="image/png"/>
  <Override PartName="/ppt/media/image3.png" ContentType="image/png"/>
  <Override PartName="/ppt/media/image14.pct" ContentType="image/x-pict"/>
  <Override PartName="/ppt/media/image16.pct" ContentType="image/x-pict"/>
  <Override PartName="/ppt/media/image15.png" ContentType="image/png"/>
  <Override PartName="/ppt/media/image7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8C3-3C55-4646-A068-238E86A3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643-7038-467D-B62D-18BA417A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F80-A07B-4566-B56A-523B6E2A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039-D9AE-4ED3-893D-7DF297B3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F44-A9C7-43E4-AA1C-12285901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5C0-C63B-4284-8D8C-25F1A002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E0F-5970-46A6-BC91-ED0410DF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18F-B2BA-4FDD-8034-A9A66EB9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C1D-D4A0-4839-A238-4F81BBDF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23E-E28F-4968-BDB3-C3DB0CB6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A34-6F9B-4E45-99E7-50B21A9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C58-8C85-4876-B076-787F288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37C2-28C9-4F14-A00E-B0C588AFE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752480"/>
            <a:ext cx="0" cy="4267440"/>
          </a:xfrm>
          <a:prstGeom prst="line">
            <a:avLst/>
          </a:prstGeom>
          <a:ln w="572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322200" cy="420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384120" cy="438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420840" cy="32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3800" y="1558800"/>
            <a:ext cx="83502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TRANSFORMATION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o students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ood comprehension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anguage of m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nderstanding of text features of mathematics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range of problem solv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classroom climate that fosters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830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3800" y="1558800"/>
            <a:ext cx="835020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RAGETIES FO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NAP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atalie paddled 402 km of the Murray River in her canoe over 6 days. She paddled the same distance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far did Natalie paddle each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roup activity - list the strategies that could be used to solve this problem before going to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7208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3800" y="1558800"/>
            <a:ext cx="835020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me common transformation strategi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out or us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drawing or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 or a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n organis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it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21924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3800" y="1558800"/>
            <a:ext cx="835020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problem to 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man buys a horse for $60, sells it for $70, buys it back for $80 and sells it again for $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d he make or lose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7432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at strategies might students use to solve the Camalot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3800" y="1558800"/>
            <a:ext cx="835020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3800" y="1558800"/>
            <a:ext cx="83502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dentify the relev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Camalot Schoo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mal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chool with only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ix classrooms in the whole school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his year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mor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tudents were enrolled that last year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classroom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as 8 tabl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for students and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table has four chair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studen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is sitting in a chai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24 chairs are empt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 the school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ow many students are at Camalo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3800" y="1558800"/>
            <a:ext cx="835020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fferent configurations of the diagram could be drawn to allow students to arrive at one of the following series of operations (or other combinations) to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4 x 8 x 6 - 24           4 x 8 x 5 + 4 x 2           4 x 7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2 + 32 + 32 + 32 + 32 + 8           5x 3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perative Learn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nk - pair -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operative problem sol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Get It Together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book re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ind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Quality improve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514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blem Solving 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lis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Draw a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Model the problem with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Simpl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it ou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Logical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3800" y="1558800"/>
            <a:ext cx="83502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SSUE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3800" y="1558800"/>
            <a:ext cx="83502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RE TO FROM HE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ole school approach to 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umeracy and literacy strategies embedded in all KLA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unt Me In Too and 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vestigate the use of Newman’s Error Analysis to develop similar questioning for literacy and other K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3800" y="1558800"/>
            <a:ext cx="8350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FOR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Read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the question is asking you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at will you do to find the answ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you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y di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Now write down the answer to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8288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800" y="1558800"/>
            <a:ext cx="835020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ordy - literac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Unnecessar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umbers written in words and num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nly two numbers are displayed using numerals. The temptation is to either add, subtract, multiply or divid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 lot of information to process in order to answer the question as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question is at the end of a long piece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098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ad the words of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understand the meaning of what has been 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1648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etermine a way to solve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SS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o the mathema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9718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3800" y="1558800"/>
            <a:ext cx="835020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cord and interpret their answer in relation to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mbedded in encoding is “record” AND “interpr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tell whether the answer they have makes 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1446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3800" y="1558800"/>
            <a:ext cx="8350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REHE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LITERAC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rite about, talk abou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xpla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quen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municativ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tching / sor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Language / wor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hras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ictagloss - teacher dictates, students record main points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505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3800" y="1558800"/>
            <a:ext cx="83502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re are 26 sheep and 10 goats on a sh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old is the cap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76 out of 97 students did one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+ 10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- 10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x 10 = 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/ 10 =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5764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3800" y="1558800"/>
            <a:ext cx="835020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r Left had 8 apples. His wife gave him 3 apples. How many apples did Mr Lef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Some students transform a problem into a proces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u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cusing on a ‘key wor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g ‘lef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2057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2:32:51Z</dcterms:created>
  <dc:creator>DET</dc:creator>
  <dc:description/>
  <dc:language>en-US</dc:language>
  <cp:lastModifiedBy>Rural Distance</cp:lastModifiedBy>
  <cp:lastPrinted>2007-02-27T23:00:34Z</cp:lastPrinted>
  <dcterms:modified xsi:type="dcterms:W3CDTF">2009-03-05T03:41:50Z</dcterms:modified>
  <cp:revision>378</cp:revision>
  <dc:subject/>
  <dc:title>Programming Stage 5</dc:title>
</cp:coreProperties>
</file>